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CFA-785C-4487-B56E-D15841E5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D8A-73DC-4F53-80DD-114CD1EC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E6C-9C12-4190-BB2A-6DDB5246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CE3-2C35-40C7-AA52-FBC4BB4C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CE5-5CB1-4BA0-AD2B-682155FE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A44-8205-4000-A923-44728031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931-3D51-48EC-912F-C13FC937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B27-2A24-4BCC-B727-D8426B3F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4D8-C76E-490C-AC00-9AC0794F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4E4-5B13-4AD3-A0A2-22CE6296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FD9-DBA9-4367-932B-749D0A64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2F9-82D6-4A2E-B4E0-858BE4AC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A279-7638-4008-B8C4-DD0CFA5DE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 – to arrang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y systema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6002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video store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clothes r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phone book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sports stad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deleev: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ientist to creat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system which organized all of the known elements into rows in order of increasing M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with similar properties we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 the same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114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ble Mendeleev created was no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lete (gaps).  The spaces left were of elements that had not been discovered yet.  He predicted they would be in the future (he was 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iodic ta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lassifies/organizes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ows us t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are one element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05740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d by increasing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omic number—different than Mende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 of protons =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omic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wo ways to read (open to 133-1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eriods – row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running left to right) =increasing atomic # from L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1447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lumn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running up and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05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within each/group famil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ve similar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819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roperties of elements repeat i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predictable way when atomic numbers are used to arrange elements into groups/families = Periodic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Group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sometimes also called famil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the similar properti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 groups/famil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ll have the same outer electron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lement on the periodic tab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s represented by a 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box tells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286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666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number of Pr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048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emember this can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429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ymbol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86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am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tomic mass – an averag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f all the elements isotopes (different # of Neutrons compared to pro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971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5:27:57Z</dcterms:created>
  <dc:creator>Farwell Area Schools</dc:creator>
  <dc:description/>
  <dc:language>en-US</dc:language>
  <cp:lastModifiedBy>Farwell Area Schools</cp:lastModifiedBy>
  <dcterms:modified xsi:type="dcterms:W3CDTF">2008-09-16T19:02:12Z</dcterms:modified>
  <cp:revision>17</cp:revision>
  <dc:subject/>
  <dc:title>Note Guide 2-1  </dc:title>
</cp:coreProperties>
</file>